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wmf" ContentType="image/x-wmf"/>
  <Override PartName="/ppt/media/image4.png" ContentType="image/png"/>
  <Override PartName="/ppt/media/image11.jpeg" ContentType="image/jpeg"/>
  <Override PartName="/ppt/media/image9.png" ContentType="image/png"/>
  <Override PartName="/ppt/media/image17.wmf" ContentType="image/x-wmf"/>
  <Override PartName="/ppt/media/image7.jpeg" ContentType="image/jpeg"/>
  <Override PartName="/ppt/media/image18.png" ContentType="image/png"/>
  <Override PartName="/ppt/media/image20.png" ContentType="image/png"/>
  <Override PartName="/ppt/media/image22.wmf" ContentType="image/x-wmf"/>
  <Override PartName="/ppt/media/image6.png" ContentType="image/png"/>
  <Override PartName="/ppt/media/image21.gif" ContentType="image/gif"/>
  <Override PartName="/ppt/media/image19.wmf" ContentType="image/x-wmf"/>
  <Override PartName="/ppt/media/image2.png" ContentType="image/png"/>
  <Override PartName="/ppt/media/image16.png" ContentType="image/png"/>
  <Override PartName="/ppt/media/image14.png" ContentType="image/png"/>
  <Override PartName="/ppt/media/image15.wmf" ContentType="image/x-wmf"/>
  <Override PartName="/ppt/media/image1.jpeg" ContentType="image/jpeg"/>
  <Override PartName="/ppt/media/image5.wmf" ContentType="image/x-wmf"/>
  <Override PartName="/ppt/media/image10.png" ContentType="image/png"/>
  <Override PartName="/ppt/media/image3.wmf" ContentType="image/x-wmf"/>
  <Override PartName="/ppt/media/image8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9CD09-3D88-43FD-A447-36CE98467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B43DA-6E02-4F15-850F-6DED522C1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E2AEB-E645-4160-9EF3-BA831F490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8B1B9-5B43-401B-83C1-BD7E8E891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F0CDA6-A7E9-48DC-B6B6-9886D1E89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05C078-80AC-44E0-93B3-28C516C80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9D6623-637F-4F52-B549-436A04332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3D9161-28DD-45FF-9D84-1F3CDE6BA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66BBF0-CAD0-4E53-A6B3-E55A9E272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A5223A-CA3A-4FF7-9846-7BC2BE889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4AFA64-7D73-4ECA-9208-FA795EB48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3A1B6-F48F-4D74-8993-E7C80EE72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9A6483-BA30-4C15-AA7F-8770A3053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70F0AF-E707-40F2-AF46-200E683B3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F1AC2D-4FFA-4742-B182-07784064C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242833-6944-4500-8D25-80D74BB41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67A232-F753-436C-AC6E-2AF0209F2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ED568A-BC3E-4738-8BF5-60D6C0405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C231FD-43C1-4B85-9983-E1F366EB7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4F4057-C189-436B-9D36-31BE525C2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6819AD-93EF-4EF1-9079-14373C15A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7513D1-7F3D-434A-A916-FF728C91B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65F30-615D-46F1-9F9A-D00D9C4DD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D11E28-EF24-4265-BA34-EEE682B09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F6A9B4-B6B2-4199-949A-E57B2A669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13C2A3-4934-410F-96C1-9057333A7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88C9A4-DBE6-4F7C-A73A-9C2634D7F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AC831C-A0F4-4A5F-8A9A-594843B9E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4D875A-D129-43C5-991D-AF334C74C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D3C85A-DB63-42EB-ABCF-F5282AC1B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361F7BA-0A4B-493D-BB99-548AE1E9C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A2C59B9-D0ED-493C-BAB6-56B83C6F7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C307F00-DC62-474C-B0F2-CB7473FB2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FD29E-4F4E-4F1D-A899-771921100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CDC0A4E-C947-4944-81D4-917377C81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A7AC8A6-D3E5-41F1-8909-BA0FC5F15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FE60A72-569E-4951-A416-CFB5C8840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64F00E5-B7C5-4100-B44D-7AB232418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6BDCAEA-2157-45B6-BDA5-A910F396C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718E757-447E-4803-9826-BE319C0F8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045B4A4-0D44-4DDE-91A2-17C9B47A3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8A7A2CC-3534-4719-91D3-32CAA5D33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28558A7-4113-4E96-B68B-928566A3C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AC073D6-9654-473B-A16D-C549FD188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8D769-F3F9-4B2F-9EA6-FCB004EE1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D9ECFD8-E326-400D-B6F2-282FD3391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66CB76A-3B9B-4B54-A330-205A66A66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8079ACC-A62F-42B4-AAA1-FD6AF6261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BC6A24B-98A7-4B15-A6AD-EB58F3B38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CE816F3-2FEE-4E65-B71A-8A20CAE1E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B67FD43-E4EA-42F6-9180-80038EC3B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5230C91-25DB-4A7A-9839-23727A95E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C0F7A57-5868-44E7-A5AA-A2B93BE4F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B991B8E-3D7D-4A84-A84A-DCC1DDC48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FB4823F-5552-476D-80A2-A71E02C77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9485E-10F1-4DC8-9385-571B3293A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B144867-1867-4856-BFE3-4AC10E456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B5B3DFE-261A-4F26-8956-90B187556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DADAE70-2364-41E3-B3E1-BE4708A11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DF980F3-6270-417D-9B65-7B5CF583F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6FC9B3F-7B36-4C14-A8F2-DC8DA542E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591D226-9399-4B49-921B-1BE82E1D3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B5B8487-9717-4BFA-9A3C-E52A44EF7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1E93E66-8C9E-471C-B78E-FB22F71AA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C0B56C5-1AD6-448F-AC2A-A2DE8EE72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0DE332C-CB36-4E78-B2FC-633EC0D6B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2E1A9-7448-4C83-9EE3-A31D2211E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1F55F6A-F7C3-4A04-9C8C-344DA0B88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E1E5B96-0DE2-426F-A450-D930ED0DC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FB15363-F7E0-493F-859F-E8ED4F2B6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C4747-8AFE-4F2E-9049-987A03996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444B8-A076-4947-9C7B-33EDD6C07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A6CC3-2AD1-47BE-9298-0B36D0A7D0D9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Straight Connector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Oval 10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5EAD7-63AE-4F50-B964-9CA86E4CFC40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traight Connector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1F3A4-B1FA-4E8E-9A54-DED88E951D75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traight Connector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Straight Connector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4D836-9CE9-4522-A75F-B5508DD6A29A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14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AEF83-9423-444A-B790-83EDED4A87D0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ftr" idx="15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sldNum" idx="17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B3433-4770-48C5-8073-DEBCE7C2DE49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ftr" idx="1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gif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370008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efac9"/>
                </a:solidFill>
                <a:latin typeface="Constantia"/>
              </a:rPr>
              <a:t>April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efac9"/>
                </a:solidFill>
                <a:latin typeface="Constantia"/>
              </a:rPr>
              <a:t>1898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53" name="Rectangle 2" descr=""/>
          <p:cNvPicPr/>
          <p:nvPr/>
        </p:nvPicPr>
        <p:blipFill>
          <a:blip r:embed="rId1"/>
          <a:stretch/>
        </p:blipFill>
        <p:spPr>
          <a:xfrm>
            <a:off x="450720" y="1427040"/>
            <a:ext cx="8321760" cy="199260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4" descr="MC900056725[1]"/>
          <p:cNvPicPr/>
          <p:nvPr/>
        </p:nvPicPr>
        <p:blipFill>
          <a:blip r:embed="rId2"/>
          <a:stretch/>
        </p:blipFill>
        <p:spPr>
          <a:xfrm rot="21420000">
            <a:off x="2045880" y="456840"/>
            <a:ext cx="5257800" cy="17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USA win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81" name="Title 1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2" descr="C:\Documents and Settings\ECPS-User\Local Settings\Temporary Internet Files\Content.IE5\PAMHR9RU\MM900323774[1].gif"/>
          <p:cNvPicPr/>
          <p:nvPr/>
        </p:nvPicPr>
        <p:blipFill>
          <a:blip r:embed="rId2"/>
          <a:stretch/>
        </p:blipFill>
        <p:spPr>
          <a:xfrm>
            <a:off x="1371600" y="2286000"/>
            <a:ext cx="3048120" cy="320040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3" descr="C:\Documents and Settings\ECPS-User\Local Settings\Temporary Internet Files\Content.IE5\VQ2LI6HE\MC900340512[1].wmf"/>
          <p:cNvPicPr/>
          <p:nvPr/>
        </p:nvPicPr>
        <p:blipFill>
          <a:blip r:embed="rId3"/>
          <a:stretch/>
        </p:blipFill>
        <p:spPr>
          <a:xfrm>
            <a:off x="4724280" y="2057400"/>
            <a:ext cx="327672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USA vs Spain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56" name="Title 1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2" descr="C:\Documents and Settings\ECPS-User\Local Settings\Temporary Internet Files\Content.IE5\6B01K6VK\MC900121139[1].wmf"/>
          <p:cNvPicPr/>
          <p:nvPr/>
        </p:nvPicPr>
        <p:blipFill>
          <a:blip r:embed="rId2"/>
          <a:stretch/>
        </p:blipFill>
        <p:spPr>
          <a:xfrm>
            <a:off x="1477800" y="2209680"/>
            <a:ext cx="618840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601200" y="1275840"/>
            <a:ext cx="8123400" cy="500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uba and the Philippines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59" name="Title 1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2" descr="C:\Documents and Settings\ECPS-User\Local Settings\Temporary Internet Files\Content.IE5\VQ2LI6HE\MC900189378[1].jpg"/>
          <p:cNvPicPr/>
          <p:nvPr/>
        </p:nvPicPr>
        <p:blipFill>
          <a:blip r:embed="rId2"/>
          <a:stretch/>
        </p:blipFill>
        <p:spPr>
          <a:xfrm>
            <a:off x="1066680" y="2819520"/>
            <a:ext cx="3048120" cy="240660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3" descr="C:\Documents and Settings\ECPS-User\Local Settings\Temporary Internet Files\Content.IE5\VQ2LI6HE\MC900189432[1].jpg"/>
          <p:cNvPicPr/>
          <p:nvPr/>
        </p:nvPicPr>
        <p:blipFill>
          <a:blip r:embed="rId3"/>
          <a:stretch/>
        </p:blipFill>
        <p:spPr>
          <a:xfrm>
            <a:off x="5486400" y="2049480"/>
            <a:ext cx="3160800" cy="305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/>
          </p:nvPr>
        </p:nvSpPr>
        <p:spPr>
          <a:xfrm>
            <a:off x="0" y="68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onstantia"/>
              </a:rPr>
              <a:t>Four reasons for U.S. involvement</a:t>
            </a:r>
            <a:endParaRPr b="0" lang="en-US" sz="8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63" name="Picture 3" descr="C:\Documents and Settings\ECPS-User\Local Settings\Temporary Internet Files\Content.IE5\6B01K6VK\MC900436375[1].png"/>
          <p:cNvPicPr/>
          <p:nvPr/>
        </p:nvPicPr>
        <p:blipFill>
          <a:blip r:embed="rId1"/>
          <a:stretch/>
        </p:blipFill>
        <p:spPr>
          <a:xfrm>
            <a:off x="1981080" y="3429000"/>
            <a:ext cx="541044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nstantia"/>
              </a:rPr>
              <a:t>U.S. gets involved to protect business interests</a:t>
            </a: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Sugar Cane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65" name="Title 1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4" descr="C:\Documents and Settings\ECPS-User\Local Settings\Temporary Internet Files\Content.IE5\PAMHR9RU\MP900144449[1].jpg"/>
          <p:cNvPicPr/>
          <p:nvPr/>
        </p:nvPicPr>
        <p:blipFill>
          <a:blip r:embed="rId2"/>
          <a:stretch/>
        </p:blipFill>
        <p:spPr>
          <a:xfrm>
            <a:off x="1447920" y="4495680"/>
            <a:ext cx="3657600" cy="217332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5" descr="C:\Documents and Settings\ECPS-User\Local Settings\Temporary Internet Files\Content.IE5\6B01K6VK\MC900370852[1].wmf"/>
          <p:cNvPicPr/>
          <p:nvPr/>
        </p:nvPicPr>
        <p:blipFill>
          <a:blip r:embed="rId3"/>
          <a:stretch/>
        </p:blipFill>
        <p:spPr>
          <a:xfrm>
            <a:off x="6095880" y="2438280"/>
            <a:ext cx="2514600" cy="18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629040" y="456840"/>
            <a:ext cx="2057400" cy="1066680"/>
          </a:xfrm>
          <a:prstGeom prst="rect">
            <a:avLst/>
          </a:prstGeom>
          <a:noFill/>
          <a:ln w="0">
            <a:noFill/>
          </a:ln>
        </p:spPr>
        <p:txBody>
          <a:bodyPr rIns="90000" tIns="9144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ac9"/>
                </a:solidFill>
                <a:latin typeface="Constantia"/>
              </a:rPr>
              <a:t>Sabotage</a:t>
            </a:r>
            <a:endParaRPr b="0" lang="en-US" sz="1800" spc="-1" strike="noStrike">
              <a:solidFill>
                <a:srgbClr val="f9f9f9"/>
              </a:solidFill>
              <a:latin typeface="Constantia"/>
            </a:endParaRPr>
          </a:p>
        </p:txBody>
      </p:sp>
      <p:pic>
        <p:nvPicPr>
          <p:cNvPr id="269" name="Picture Placeholder 4" descr="maine7.jpg"/>
          <p:cNvPicPr/>
          <p:nvPr/>
        </p:nvPicPr>
        <p:blipFill>
          <a:blip r:embed="rId1"/>
          <a:stretch/>
        </p:blipFill>
        <p:spPr>
          <a:xfrm>
            <a:off x="268200" y="274680"/>
            <a:ext cx="6400800" cy="5931000"/>
          </a:xfrm>
          <a:prstGeom prst="rect">
            <a:avLst/>
          </a:prstGeom>
          <a:ln w="0">
            <a:noFill/>
          </a:ln>
        </p:spPr>
      </p:pic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629040" y="1599840"/>
            <a:ext cx="2057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fac9"/>
                </a:solidFill>
                <a:latin typeface="Constantia"/>
              </a:rPr>
              <a:t>The U.S.S. Maine blew up in Havana Harbor, Cuba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ubans wanted independence from Spain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72" name="Title 1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2" descr="C:\Documents and Settings\ECPS-User\Local Settings\Temporary Internet Files\Content.IE5\AN5J0SYW\MC900022392[1].wmf"/>
          <p:cNvPicPr/>
          <p:nvPr/>
        </p:nvPicPr>
        <p:blipFill>
          <a:blip r:embed="rId2"/>
          <a:stretch/>
        </p:blipFill>
        <p:spPr>
          <a:xfrm>
            <a:off x="1981080" y="2809800"/>
            <a:ext cx="5639040" cy="35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Millions of people were influenced by newspaper articles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75" name="Title 1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2" descr="C:\Documents and Settings\ECPS-User\Local Settings\Temporary Internet Files\Content.IE5\VQ2LI6HE\MC900445600[1].wmf"/>
          <p:cNvPicPr/>
          <p:nvPr/>
        </p:nvPicPr>
        <p:blipFill>
          <a:blip r:embed="rId2"/>
          <a:stretch/>
        </p:blipFill>
        <p:spPr>
          <a:xfrm>
            <a:off x="2209680" y="2530440"/>
            <a:ext cx="5257800" cy="35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Exaggerated news stories about events that incited Americas desire for war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78" name="Title 1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2" descr="C:\Documents and Settings\ECPS-User\Local Settings\Temporary Internet Files\Content.IE5\VQ2LI6HE\MC900365974[1].wmf"/>
          <p:cNvPicPr/>
          <p:nvPr/>
        </p:nvPicPr>
        <p:blipFill>
          <a:blip r:embed="rId2"/>
          <a:stretch/>
        </p:blipFill>
        <p:spPr>
          <a:xfrm>
            <a:off x="1676520" y="3048120"/>
            <a:ext cx="59436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6T20:11:49Z</dcterms:created>
  <dc:creator>Valued Gateway Client</dc:creator>
  <dc:description/>
  <dc:language>en-US</dc:language>
  <cp:lastModifiedBy>ECPS-User</cp:lastModifiedBy>
  <dcterms:modified xsi:type="dcterms:W3CDTF">2010-10-06T22:55:47Z</dcterms:modified>
  <cp:revision>15</cp:revision>
  <dc:subject/>
  <dc:title>Spanish American War</dc:title>
</cp:coreProperties>
</file>